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E98-080C-4FB5-B05D-C0EA86C4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ADE-5BC1-4C2E-9D5D-CB88D3EB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ADD-26C5-4E12-8104-693C32AC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417-CDFD-44FE-AC53-4A517182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399-84A7-4F80-A34B-70A68EB8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D2B-C66A-4B5A-9DA8-5D95DCD5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72E-0826-4B7F-9930-1838DE50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695-2DC6-4432-9EA9-F72D25F1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12C-14DC-4CFF-BBC2-AB8D040F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DFC-C9EA-4A24-8267-C86417F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7BF-10CF-45FA-A823-95C8E879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787-5163-4C58-9DE4-1ABE958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1CB21-D579-4C96-AD8E-3B15613DB560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5C135-2EBF-4F93-B4C2-F7630CA4D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Semantic_Web_Telecon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for ESIP SW triples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898989"/>
                </a:solidFill>
                <a:latin typeface="Calibri"/>
              </a:rPr>
              <a:t>ESIP SW Cluster, Nov 22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898989"/>
                </a:solidFill>
                <a:latin typeface="Calibri"/>
              </a:rPr>
              <a:t>Telecon, 2pm 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iki.esipfed.org/index.php/Semantic_Web_Telecon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SW Triples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SIP meeting theme – metrics, impact and value – we should include this in our tutori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ed PM, Thu 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nd to end walk through of entire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ossible plenary presence (15min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Up to 6 hours, 2 x 1 1/2 hrs each d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ry and avoid clashes with other sessions of inter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and What - 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420920"/>
            <a:ext cx="91440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ed PM Session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troduction – 10 mins – P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case – motivation and scope – 20 mins - Ch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del – based on use case, start with domain model and proceed to ontology model and then show them how to engineer it (i.e. a piece of it) – 1 hr – Peter and R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ed PM Sessi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del ctd – 20 mins – Peter and R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stance generation and population (how to? Write turtle, use Protégé, …), triple store ingest, web form – demo – 1 hr – Rahul and P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ummary and evaluation – 10 mins – Chris and H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nd h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420920"/>
            <a:ext cx="91440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 AM Session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 to these sessions – 10 min - 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definition – decompose use case, review technology and dependencies, examine requirements for search and report, add/ correct instances, technology dependencies – 1 hr 10 mins – Peter and T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–10 mins - Chris and Hoo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 AM Session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/query development – generate SPARQL, follow along, provide a web query form, cut paste query into a textbox and execute and get result, for visual or text traversal, web form in wiki and first class citizen values (URI) - 1hr – H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–10 mins - Chris and Hoo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ems that would lead into intermediate (next)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endipitous discovery of homonym problem and options for 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51:09Z</dcterms:created>
  <dc:creator>Peter Fox</dc:creator>
  <dc:description/>
  <dc:language>en-US</dc:language>
  <cp:lastModifiedBy>Peter Fox</cp:lastModifiedBy>
  <dcterms:modified xsi:type="dcterms:W3CDTF">2010-11-22T21:02:47Z</dcterms:modified>
  <cp:revision>13</cp:revision>
  <dc:subject/>
  <dc:title>Slide 1</dc:title>
</cp:coreProperties>
</file>